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EE2D-0CF5-4E66-9E02-D4E409DA8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478C-3FBD-4862-8211-D3033F11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9D41C-19C8-4EB6-84B4-505A8C76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AD889-B3E6-4DFF-B2BE-14FC340B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D6C3D-E8F6-43B3-AC3A-12C9BB8D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99DED-BCB0-42E7-9E96-77D5B1D5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993C1-12D4-4375-A995-99F8FE7F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CD6A6-107A-46F1-8007-B9A2BEF0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276C2-9A8F-43C5-A570-7D912133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9E46E-CF80-4397-A950-FCD454E9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C7941-8F2B-404A-8C6E-21144CA88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6BE32-BCB5-4B88-9ABE-EE946B39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B619-2B36-46BD-AFA3-82D71480C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14FB3-4A77-47E7-85D5-0ACE283A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EF5FAA-41FD-4BFD-A5CE-38324A1D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364B4-45C9-4F90-94CB-47C45D7B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52025-7BBA-4E75-81FB-04FCB942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320915-25C2-4C77-BD83-8D9957D3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70129-2BFC-4E38-BC61-06F4D89E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11149-C437-4B62-B39E-C70FEBF7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6CE78-B711-4DB4-9359-3E93E306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F301B-D15F-4436-B57F-1FDF9258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E1774E-18EB-41A9-A04A-EE104B53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7080-6BC5-4D8A-8A89-49F3F291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67868-AA31-4F8A-9F9F-07FAE80A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E36D4-B14A-480C-B18D-6602E90A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33D3D-089E-48E5-97E8-DDD7142E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EDC82-0076-4100-944A-BEF26051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5D426-0EF5-4DB9-8793-7FEA2680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CB051-B7CE-4B49-B69B-1FA4E664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F1D6B-1B07-4868-ABF8-75DFCE88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5D941-901E-4564-9146-6521DE78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2A7C0-A485-447A-B60D-3B398921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C11B5-C66E-4F56-9E69-C335A091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1A7B-234A-4B28-B4A9-3A32B0F51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9EE0D-FE6D-4A53-B269-6221AEE6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851E1-4276-4A32-BEED-38DAFF65F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D5BE4-D824-4AB5-A7F6-4F47C2DF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13451A-D093-4C4C-9F08-5138BE659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83575-35CB-4AD4-8CD3-872061D3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98C13-BF51-478D-8380-2AC17922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430D0-2707-4A76-B9B9-A8A1098E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668B46-CD62-4ED2-9DD5-04EBEBB5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6C651-6465-491B-B3D9-9C37EB40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029B9-6597-4C66-A742-916FE22D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C9C7-87BB-48C3-8B82-FF8ADB8E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FC1B7-633C-4467-AEB7-AC1256D7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97995-AA3D-4993-8D15-32067760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D89D43-9958-45DF-B36A-82F2CFE5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C6D4C1-0EE3-4E75-8425-2D2A38FE4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EB65EB-9074-4F6C-879F-B2BDDEF4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1C7264-5E20-4478-A958-77A694B3E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8572C4-A079-4A33-B39E-BCE566BC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94EF6A-BE15-4B90-8367-092A98E9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B9082B-E468-49D6-AC58-1C3CFDC0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A90088-6CEA-4987-8D36-BB53BA1B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485D-7E2E-4E73-8D99-2C07694C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9B1742-7614-48CD-8E2F-CCE58C95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CDB95A-4A91-43E9-BE15-82020819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4960A8-1D45-4B87-8E42-DE95CDD8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7BDAEE-3A7C-4B78-A57C-17288707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F5887B-E632-4252-BD4E-8A1C6E62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D8E8C3-89B9-4303-93E1-CC4D50F17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0090CE-1EB0-456F-A3FF-DA845335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0D4FE4-1218-43B3-89E7-DFB78607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619A18-E39D-4C6C-A1BF-23FD6160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634F60-45D7-4D6D-BF3F-7949AC02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9138-4B98-4D78-B483-E997AFF1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07530A-37DA-4C3C-BA7D-8B79ED83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EBD30D-2D55-4F99-B950-B5600010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62C0A1-6F59-46CE-B754-DBCCBED4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29EA2D-0F90-465D-A821-7FA9DEAD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683E0F-8CA6-4F99-8ED9-24D2F0B6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0F0C12-52DE-4B01-8B49-7E36619E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84FC6A-82FA-415A-8C34-8FB2EF58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9DB8DF-F27F-4152-9FC6-DDBDE50B5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4E0884-75D2-4009-A233-6AE0BF6E6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F33F7C-787C-4D2A-B4FA-D33D628BA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F5FF-D7F9-4EBC-BEF9-55110EF5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1E88EC-48DC-4C38-B6D2-CB351CAC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3313C6-D124-405D-AA71-00143F4B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EF2E0E-6AEB-42FF-A402-25B8CCEA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823957-C610-4F20-9347-4DB33658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20A8E4-CADA-4425-B7BC-2CB4CE0D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7C7C78-AAB7-40DE-B7CE-8F0414E6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40FA94-4885-4F23-95D2-9D675FD9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C78349-09D1-40F5-B8C8-04E72788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EC061C-0AD3-4F4F-8BF1-936F1549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6240ED-94A0-4955-8CC6-C101A514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6991-4D90-4ED2-9954-AEB49D8D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ED368A-F8D5-46AA-9D9E-E33ED26E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0814DE-4662-409B-881B-D1F50C846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E271A3-B83B-46BE-A802-448A85C0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DA352E-42C6-42BC-BC4A-9D75B04E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30C237-FE77-4BC4-9EA3-AB64C49D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1C0603-CA2B-4287-8CE7-3337D6BE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DEFED2-9C3B-42BA-8D8A-03ECDEDB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8E5E57-1D5D-4F92-B3FD-6EF2545D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76C760-297D-4FEB-B93F-00AB7C3D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C7D293-F368-44C4-A067-2DAC5A21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9867-C9E0-417C-B32A-4F525A89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5A994C-F9F4-4C6A-89DC-942C003E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D9EDCF-C354-4788-BBE1-939284DBD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65CE60-6F66-4395-BDA7-B52B123C4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6CA954-DC77-495B-A75A-3655BD9E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7F14A5-1607-406E-8CFA-A11D2E2C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AED351-9570-438E-AF3E-BC385955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EC7F5A-02A4-4C71-A378-11BAD718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158F55-0FC2-4AFF-9295-2E8D101B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E44815-653D-4C1B-AE26-DB88D595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A305C5-D883-4141-9285-53CB6493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74AD-B028-4ADA-A909-E2D06B43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5A34-75BD-4F63-A887-4B2FE4A1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CA3D1C-7E76-4774-8DF1-0E555D0A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D1F2D2-EFB4-4CD0-9842-F761000D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28ACC6-01EB-4E73-9301-2B1E7F38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8DECB6-67B5-44DB-8A60-3525401F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5FC722-1F8C-4C28-9732-395B80E1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384A38-E0F0-4D53-8139-5ED5FAEED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DE2D4D-30D9-4DC4-A856-445480C6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32891C-98A6-42C1-8818-BFBAB49A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56D986-402E-42E5-BB60-318ACEB2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A6C0F6-3E3C-4A60-8E3C-259D102F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F9DC-7830-4260-A8A2-5DA00951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0F69F8-4498-4DBF-AFF4-390C3340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8C2F28-935C-4055-A192-591A5877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4639AA-5ED4-40C1-B1EE-7CAE1779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FE1978-12F1-434F-BA16-9F772568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052900-1FEC-445D-82E8-A3A049A7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91E7CD-679E-41C0-8254-9FCB61878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5399D2-4494-4A49-BDBC-6DE686A17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1B36EA-4E5A-4AF5-8D99-468D0E28A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408977-8336-4273-B94C-36BF0B1F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D7D7BE-2BAF-4E94-85D6-62405FD0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5819-1672-4629-872F-24C4BCE4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766579-37F0-45BB-8651-F1FFD17A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6A752D-E093-45EB-93EA-0234A094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E714FA-15F4-45B6-AD28-140AF4C9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0DAE80-3F73-4DC3-9C82-258CFC2D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9FBD89-CB5D-4EB3-917E-E86D3148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FC54ED-4AC9-408F-ADC0-13A106DF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C5DA72-3C50-4483-9969-932E8DD4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1B2877-E3F9-46EC-AB84-136590AAF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A41036-C824-4B3E-B64B-FECD03CB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AA998F-3C0E-475D-9BDA-49142F36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CECB-E725-4312-9A81-F856C9D59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48C1CA-AC44-4581-8662-847BE506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EA7368-8848-45EF-BD11-9307153E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266B20-7D7C-4746-A736-BDA5985C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D8FCAE-B5CA-4B41-8A41-7B0F9A96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1B82D8-484A-4D65-898F-86ED421F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B6ED20-5A65-409E-9BDB-3E2512DC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119743-055F-4227-B519-BD2FC579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EF2B4D-00D7-4270-8E70-B019AA90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673CBB-E4C6-4D2A-B2BD-B0B75C29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645EEE-D990-4D9C-AB33-9FAB6CF7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5674-5DCC-45BC-8495-1B2EBCE15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D559EB-4C8E-4D00-9057-F796D4F2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DFCCF3-BCC3-42D6-8297-8A80A0BC7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7A2226-4BE2-4C67-925E-C8179B3D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EB48C2-CC0A-4D32-BD2C-438ED227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A96B59-B027-4F04-A58C-DED718FB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1B5E51-F381-43A1-88E3-A10C8D85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5AC9BB-CFED-478F-AAFA-205A99AC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96A6DA-5EE6-4181-BE89-FF2B3F41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D7C236-702E-412B-994F-080D598F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5E58EA-9BAF-4FFD-8F64-613361B0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9C5DE-33CD-49B5-996B-06FF80170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234681-981F-4E6C-9064-084A7D12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6CBD73-7DCF-4A74-850B-85358A5B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71D8C6-2DB4-4FB4-8755-A5B3A192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1A8E1-437C-4856-B04F-C7C7A98E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87436-BC72-47F6-A1C8-DA99B43A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D6377-E366-4C91-AF0C-2E19A382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5F093-42B5-462B-A91E-9B2FD150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1FF6-9F12-425A-832A-3B20DF29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1B739-B167-4D23-B390-2DA21FD0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0BE0B-6DFA-4B68-90F6-40F5D8BA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0E92F-61FC-46B7-9E7D-C9D914A3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621DC-994D-487A-82F6-767E7DCD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A31B9-AE67-424E-AED9-B51028E1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BDB6E-90CD-47AC-9866-31516F4B2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AEA9A-F132-4141-92DD-F271AD42B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36CFC-566A-49FC-93C1-09AB5248F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4915C-9781-45CF-89A3-FAF72DF2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366F6-B3A1-4614-8FE5-1F7C2030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A55B-2AA2-4EE5-8701-48DEFE03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BF636-8F18-487A-8107-2EB34513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71540-8AAD-4F69-BBDB-F00996E9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CC2B4-8561-45B3-B317-D92F6ABA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A6FFC-7681-4980-94AC-4FA9526A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CBC4E-9867-4C53-93C7-5C30CE33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CDCBA-C268-4A30-AFCC-DB5088B4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343AE-E04F-4678-A0E2-31C71F89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0D41C-F127-41B4-9B46-35C228C3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33DDB-4F13-41EB-8BA8-6C1A5A354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07DA8-99E1-4EEC-B63E-9C582B39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C4A2-1882-42FC-85A4-D42C9AA3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3E32F-018A-474F-A52B-87125030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74E6A-BE93-470F-A44F-CC1BC8F6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A0874-A2C0-4DD5-B490-55966B91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DD2EB-044B-4C12-A2C0-FEDDFDE7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13BE4-23BB-468D-B1B6-4977343B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38110-E642-47CB-970B-08DD3C3C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E883A-F166-4ECC-BF70-CA34420F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C30B0-027F-491A-B82C-CB76ECE1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5DCB8-CDE2-41B6-B84A-5A7675CC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E5C5A-8B6A-40D9-AD53-90B59D4E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E4FD-BC34-4B60-879C-7942B8FC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34F0C-4F0E-424B-B1E2-2FCB9A225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583C2-FBE6-4CEA-810C-E07E127C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9E83C-D50D-4658-B2E5-BAFF2B2B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55D3A-7E49-4DA4-8825-06D25CD1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651B3-EB11-4355-8CDA-3F05D3D5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36807-E2C3-4BFF-B7EA-74A69B40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2BF38-52B7-43FE-8EC9-0AA03282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53564-E8F4-4A4C-8A15-E3EEA0B8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42A00-4DA7-4C15-933D-D90566D4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BABFE-D759-4D02-AC6D-852CC2B6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27D2-CF15-4C9B-BFD3-F7BB836C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41881-9856-4596-B978-84242C45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F8038-3019-4B91-A21F-03F8413C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EDDFE-5E5A-42F1-B38A-443163B3E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232CA-790F-4A7C-86C0-7B53FE4AF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4558F-287D-4F79-8931-12FDDF3E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7B731-D061-4E71-B77A-442A73D7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B7501-60F0-44F0-981F-57C68EAB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9D26C-3E5D-43B9-8E08-9D2D0627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A2FF1-546D-49F3-B62E-84D6AB2E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A1A6A-A467-429D-8AAD-2B64F82D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2AE4-13AF-48D3-B0E5-E575F500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FB8B7-462E-4ABE-A6A3-48D7ADFA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13A42-D09B-4BAD-AA66-6D19FFFD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15CC6-A63E-480D-AB38-7BFCE34F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74888-36BB-4CB4-A87E-D97A2EEA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45DA0-2361-472A-A456-5625DE569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77A8A-5476-4793-ABA5-CCF6FEFD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45F1C-A1BD-4032-A1CC-51A14C93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E6DD1-4374-4736-98F3-B329FC52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35203-4656-4460-AD7B-B819327A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F5FB3-5B83-4CC1-8E04-1D54909E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FAF8-ADB8-42E8-8CD5-8311507B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0421A-83FB-49C5-BCB9-B8F43714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94C93-2360-467A-90FA-C7BAC62D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FF999-8D91-4FAB-A760-0BE1FDCE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90E56-0C2D-46F6-A027-7CEBC8AE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BDEFD-4A33-4ED7-BFE0-C102A5AA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E7F7E-733D-4356-8E76-6E724A9F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4C542-FADE-4504-8CD9-DADCE7BB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6F1D9-8EBF-40B6-BD8E-4F5C49CCE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ED40E-6934-491F-93AF-B9911BB8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711CC-B392-4287-83BC-F2244B1B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EAD7-208B-4CFD-838E-73572B74BC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2C61-25AA-41A5-95B5-79094779D3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5FAE-C770-46F8-8B90-D4C6101319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4142-4A9E-4EEC-821C-0F61A8C550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10E1-185F-4171-AC34-5065F1DCBB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EA8F-5ED1-4B7B-8304-3B0372A6C0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7B16-1A37-46DE-A360-C10A93099F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1557-2D83-4625-8196-BCCBC08B3B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92BF-D799-4B37-9F3E-968931477B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70E9-EA83-4954-BBED-099597A156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4278-CEE5-42C3-9A6D-08232204F3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7A19-4B53-4730-93C2-4AE250E35E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193F-FA91-43F7-B7A4-AED17C3F8A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E6A1-0AD0-45A2-8817-2F49CE346A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418C-0204-4D69-8337-C2DEE37C06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D9CE-D26A-4213-A7B9-3DE0E06420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4AA2-4C3E-4BD8-92DE-4DFCE1A076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7F44-E5AA-4E0E-935E-6C027223FE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EA54-E245-4055-8737-F2FC92F72E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7795-7429-4C80-9D2C-6ABD11E1B7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F3BC-12EC-483E-9C51-93D4C8410D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A647-D26D-4C48-9085-A7CA9DB6B3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43C6-5938-47A1-BD73-3E79FE3275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6C87-9808-4149-8BF7-183AD57E0C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A243-479A-4C38-9897-4C901DF04E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9E83-E15E-40CE-B92B-61C1274BB4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CAF6-4A3C-4271-9FFE-C163E3601C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1A63-5057-4EEE-ADB5-61757D3762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BFC9-4E04-4628-8999-98951E896E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9F44-9F50-4F37-9EB9-B6E29F6A3D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0E79-A6C3-4B87-98E0-64ED61FBB7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957F-C471-40ED-85E1-4FA117514A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E65C-E414-4301-95BD-96FE8F49F6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FA16-459A-4E8F-9139-029E6C9F41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9453-21B9-4F93-B44E-DC36C27FAC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FF45-BC65-4F7B-8F15-461AFF4C99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48E0-0E4C-4B29-BFC9-99B2C55B6C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AD97-67F5-499A-8B01-D6D5174FDD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A7AA-5237-4B9B-BC99-2F8329E693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8A5C-14BE-46C2-B5EA-BE8BF74B6D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803592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716040" y="115920"/>
            <a:ext cx="8248680" cy="62960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6409080" cy="79200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900000" y="2708280"/>
            <a:ext cx="6408720" cy="7920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755640" y="4753080"/>
            <a:ext cx="8209080" cy="4762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5"/>
          <a:stretch/>
        </p:blipFill>
        <p:spPr>
          <a:xfrm>
            <a:off x="611280" y="5373720"/>
            <a:ext cx="8208720" cy="476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6"/>
          <a:stretch/>
        </p:blipFill>
        <p:spPr>
          <a:xfrm>
            <a:off x="611280" y="5950080"/>
            <a:ext cx="82087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59410" descr=""/>
          <p:cNvPicPr/>
          <p:nvPr/>
        </p:nvPicPr>
        <p:blipFill>
          <a:blip r:embed="rId1"/>
          <a:stretch/>
        </p:blipFill>
        <p:spPr>
          <a:xfrm>
            <a:off x="552600" y="1428840"/>
            <a:ext cx="8038800" cy="40003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8280360" cy="476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395280" y="2637000"/>
            <a:ext cx="8280360" cy="4759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4"/>
          <a:stretch/>
        </p:blipFill>
        <p:spPr>
          <a:xfrm>
            <a:off x="541440" y="4294080"/>
            <a:ext cx="8280360" cy="476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5"/>
          <a:stretch/>
        </p:blipFill>
        <p:spPr>
          <a:xfrm>
            <a:off x="468360" y="4941720"/>
            <a:ext cx="8280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58373" descr=""/>
          <p:cNvPicPr/>
          <p:nvPr/>
        </p:nvPicPr>
        <p:blipFill>
          <a:blip r:embed="rId1"/>
          <a:stretch/>
        </p:blipFill>
        <p:spPr>
          <a:xfrm>
            <a:off x="476280" y="1114560"/>
            <a:ext cx="8191440" cy="46288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395280" y="1714680"/>
            <a:ext cx="6985080" cy="4759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324000" y="2276640"/>
            <a:ext cx="6984720" cy="4759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4"/>
          <a:stretch/>
        </p:blipFill>
        <p:spPr>
          <a:xfrm>
            <a:off x="322200" y="4638600"/>
            <a:ext cx="8569440" cy="4762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5"/>
          <a:stretch/>
        </p:blipFill>
        <p:spPr>
          <a:xfrm>
            <a:off x="250920" y="5200560"/>
            <a:ext cx="85690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57352" descr=""/>
          <p:cNvPicPr/>
          <p:nvPr/>
        </p:nvPicPr>
        <p:blipFill>
          <a:blip r:embed="rId1"/>
          <a:stretch/>
        </p:blipFill>
        <p:spPr>
          <a:xfrm>
            <a:off x="395280" y="895320"/>
            <a:ext cx="8353440" cy="50673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395280" y="1441440"/>
            <a:ext cx="8353440" cy="4762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324000" y="1989000"/>
            <a:ext cx="8353440" cy="4762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4"/>
          <a:stretch/>
        </p:blipFill>
        <p:spPr>
          <a:xfrm>
            <a:off x="324000" y="2565360"/>
            <a:ext cx="8353440" cy="4762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5"/>
          <a:stretch/>
        </p:blipFill>
        <p:spPr>
          <a:xfrm>
            <a:off x="250920" y="4869000"/>
            <a:ext cx="8353440" cy="4762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6"/>
          <a:stretch/>
        </p:blipFill>
        <p:spPr>
          <a:xfrm>
            <a:off x="179280" y="5516640"/>
            <a:ext cx="83534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56324" descr=""/>
          <p:cNvPicPr/>
          <p:nvPr/>
        </p:nvPicPr>
        <p:blipFill>
          <a:blip r:embed="rId1"/>
          <a:stretch/>
        </p:blipFill>
        <p:spPr>
          <a:xfrm>
            <a:off x="419040" y="2238480"/>
            <a:ext cx="8305920" cy="23810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395280" y="2795760"/>
            <a:ext cx="8424720" cy="4759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395280" y="3357720"/>
            <a:ext cx="8424720" cy="4759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395280" y="3933720"/>
            <a:ext cx="84247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图片 55300" descr=""/>
          <p:cNvPicPr/>
          <p:nvPr/>
        </p:nvPicPr>
        <p:blipFill>
          <a:blip r:embed="rId1"/>
          <a:stretch/>
        </p:blipFill>
        <p:spPr>
          <a:xfrm>
            <a:off x="262080" y="1038240"/>
            <a:ext cx="8619840" cy="47815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900000" y="3213000"/>
            <a:ext cx="7775640" cy="8636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3"/>
          <a:stretch/>
        </p:blipFill>
        <p:spPr>
          <a:xfrm>
            <a:off x="1116000" y="4192560"/>
            <a:ext cx="6120000" cy="4762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4"/>
          <a:stretch/>
        </p:blipFill>
        <p:spPr>
          <a:xfrm>
            <a:off x="1042920" y="4797360"/>
            <a:ext cx="6120000" cy="4762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5"/>
          <a:stretch/>
        </p:blipFill>
        <p:spPr>
          <a:xfrm>
            <a:off x="971640" y="5300640"/>
            <a:ext cx="61196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54276" descr=""/>
          <p:cNvPicPr/>
          <p:nvPr/>
        </p:nvPicPr>
        <p:blipFill>
          <a:blip r:embed="rId1"/>
          <a:stretch/>
        </p:blipFill>
        <p:spPr>
          <a:xfrm>
            <a:off x="428760" y="890640"/>
            <a:ext cx="8286480" cy="50767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2"/>
          <a:stretch/>
        </p:blipFill>
        <p:spPr>
          <a:xfrm>
            <a:off x="684360" y="2017800"/>
            <a:ext cx="7848360" cy="4762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684360" y="2565360"/>
            <a:ext cx="7848360" cy="4762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4"/>
          <a:stretch/>
        </p:blipFill>
        <p:spPr>
          <a:xfrm>
            <a:off x="684360" y="3213000"/>
            <a:ext cx="7848360" cy="4762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5"/>
          <a:stretch/>
        </p:blipFill>
        <p:spPr>
          <a:xfrm>
            <a:off x="684360" y="3716280"/>
            <a:ext cx="7848360" cy="4762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6"/>
          <a:stretch/>
        </p:blipFill>
        <p:spPr>
          <a:xfrm>
            <a:off x="826920" y="4292640"/>
            <a:ext cx="7848720" cy="4762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7"/>
          <a:stretch/>
        </p:blipFill>
        <p:spPr>
          <a:xfrm>
            <a:off x="755640" y="4869000"/>
            <a:ext cx="7848720" cy="4762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8"/>
          <a:stretch/>
        </p:blipFill>
        <p:spPr>
          <a:xfrm>
            <a:off x="611280" y="5445000"/>
            <a:ext cx="7848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图片 52231" descr=""/>
          <p:cNvPicPr/>
          <p:nvPr/>
        </p:nvPicPr>
        <p:blipFill>
          <a:blip r:embed="rId1"/>
          <a:stretch/>
        </p:blipFill>
        <p:spPr>
          <a:xfrm>
            <a:off x="730080" y="52560"/>
            <a:ext cx="8305920" cy="67528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2"/>
          <a:stretch/>
        </p:blipFill>
        <p:spPr>
          <a:xfrm>
            <a:off x="511200" y="1989000"/>
            <a:ext cx="8604360" cy="9352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3"/>
          <a:stretch/>
        </p:blipFill>
        <p:spPr>
          <a:xfrm>
            <a:off x="539640" y="2938320"/>
            <a:ext cx="8604360" cy="9352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4"/>
          <a:stretch/>
        </p:blipFill>
        <p:spPr>
          <a:xfrm>
            <a:off x="324000" y="3933720"/>
            <a:ext cx="8604000" cy="9352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5"/>
          <a:stretch/>
        </p:blipFill>
        <p:spPr>
          <a:xfrm>
            <a:off x="179280" y="4869000"/>
            <a:ext cx="8604360" cy="9349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6"/>
          <a:stretch/>
        </p:blipFill>
        <p:spPr>
          <a:xfrm>
            <a:off x="250920" y="5923080"/>
            <a:ext cx="860400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10:06:30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